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3BF-9CA8-4316-86EB-3833DE257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5352-DDCE-4A25-9CA5-BB9620AC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6EB5-1A60-4D89-BFD3-CE077CF0E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9F13-2AFE-47C0-A9F4-55A32B798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CCD9-A019-4208-A13F-9D6EFE001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B591-113F-4193-AA89-A9059C71F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2B16-A101-4277-8227-9CEF4E816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E57E-3792-4DF9-AD2D-931478B3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5DAC-A24E-4F12-B617-E5D5A489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608-3FDC-4AEA-91A7-97A282B7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663C-D62F-47BA-ACC5-6C4032211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A14C-3251-4F01-A4A7-1E38612A5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0B9C3-1F30-4F7F-993E-17039A6D04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Mickiewicz „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Środki stylistyc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3514680"/>
        </p:xfrm>
        <a:graphic>
          <a:graphicData uri="http://schemas.openxmlformats.org/drawingml/2006/table">
            <a:tbl>
              <a:tblPr/>
              <a:tblGrid>
                <a:gridCol w="2743200"/>
                <a:gridCol w="2595600"/>
                <a:gridCol w="28908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ikła jak lekki powiew wietrzyk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 nagłe i niespodziewane zniknięcie dziewczyn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33224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„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 błędny krok niesi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/ przeno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smutek i zrezygnowanie chłopca widoczne w sposobie jego poruszania się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363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 „Błędnymi strzela oczyma;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smutne spojrzenie bohater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34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ewicza piękność wytrysk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 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reśla urodę, młodość, zwinność i delikatność nimf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36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o mgła lekka, tak lekkie stro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wiały postać niebieską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, że dziewczyna ma tak delikatną suknię, jakby była bez odzieni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Świtezianka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3833640"/>
        </p:xfrm>
        <a:graphic>
          <a:graphicData uri="http://schemas.openxmlformats.org/drawingml/2006/table">
            <a:tbl>
              <a:tblPr/>
              <a:tblGrid>
                <a:gridCol w="3322800"/>
                <a:gridCol w="2163600"/>
                <a:gridCol w="2743200"/>
              </a:tblGrid>
              <a:tr h="11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pięknych licach topi oczy,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zakochany wzrok strzelca, w którym widać zachwyt urodą kobiet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083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ami usta 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żane goni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żywie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piękno pierwszego pocałunku i kolor ust ukochane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tulacj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Świetn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robota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 dobry początek </a:t>
            </a:r>
            <a:r>
              <a:rPr b="0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MA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NÓWAON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3298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łopiec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iękny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łod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reśla urodę i wiek młodzieńc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3629160"/>
        </p:xfrm>
        <a:graphic>
          <a:graphicData uri="http://schemas.openxmlformats.org/drawingml/2006/table">
            <a:tbl>
              <a:tblPr/>
              <a:tblGrid>
                <a:gridCol w="2743200"/>
                <a:gridCol w="2451240"/>
                <a:gridCol w="30351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ziewczyna) „Jak mokry jaskier wschodzi na bagnie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 jak niespodziewanie dziewczyna pojawia się na spotkaniach ze strzelcem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586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ziewczyna) „Jak ognik nocny przepada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nagły i tajemniczy sposób znikania kochanki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78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ęstej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eszczyny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odkreśla obfitość roślinności, uplastycznia opis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2743200"/>
                <a:gridCol w="2451240"/>
                <a:gridCol w="303516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ard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łokosi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jawnia stosunek dziewczyny do propozycji młodzieńca i zdradza  jej nieufność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386568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łowicze wdzięki w mężczyzny głosi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 sercu lisie zamiary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, że za pięknymi słowami mężczyzny może się kryć podstę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95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iekiel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otęgi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odkreśla sp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b zaklinania się młodzieńca na wszystko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15T16:19:55Z</dcterms:created>
  <dc:creator>Dorota</dc:creator>
  <dc:description/>
  <dc:language>en-US</dc:language>
  <cp:lastModifiedBy>Dorota</cp:lastModifiedBy>
  <dcterms:modified xsi:type="dcterms:W3CDTF">2021-09-18T12:47:37Z</dcterms:modified>
  <cp:revision>5</cp:revision>
  <dc:subject/>
  <dc:title>Adam Mickiewicz „Świtezianka”</dc:title>
</cp:coreProperties>
</file>